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651-96FD-4C41-B135-E11593C2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84B-554B-4323-A003-680387F6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251-1C74-4644-98B9-0BC3F8C9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B90-4E82-477F-B2DE-10A658CA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955-98CA-424D-8A8D-595EDFBF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516-0879-4F2C-A69A-83E44593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831-52E9-49FE-80AA-8B96F1C9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FF7-6C91-44F6-9547-E75AB5EC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53A-A4D9-45AD-AA7B-7A688C6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2F9-2D12-4C56-BC0A-129FE62C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D87-639D-4988-9D99-36E4246B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ED4-922C-4E63-8EF0-E2EC920B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695-0A71-4DBA-8FC7-46238FC29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2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98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998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98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998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998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998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and 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thanks to Mr. Griffith, and Wiki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RoNald</dc:creator>
  <dc:description/>
  <dc:language>en-US</dc:language>
  <cp:lastModifiedBy>Bowey</cp:lastModifiedBy>
  <dcterms:modified xsi:type="dcterms:W3CDTF">2010-12-16T20:49:57Z</dcterms:modified>
  <cp:revision>15</cp:revision>
  <dc:subject/>
  <dc:title>Slide 1</dc:title>
</cp:coreProperties>
</file>